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2A8-61A4-4BF6-AEF6-C1036280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CF2-6282-4C20-90D2-C40F397B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5D0-6D36-4AA3-988A-27DA5E39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CC5-A076-4EA8-9D11-45FDEEEB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6742-A6EB-45F1-B104-9316338C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3EC8-6C86-42BB-AE38-F8537B5E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F05C-0D9B-4BF2-B889-2E605EE8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9A76-B816-4F96-9600-F47C2CBD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C20B-68EF-4BD7-B5C0-5717D9E5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A28E-1EAB-4A45-8EF3-142352A1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0AC5-B7F2-49F3-8DBE-6030581A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592-655A-44E0-B0EA-61EDCC92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F78A-5BEE-4E20-98C4-2C933CA8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8C71-BC4A-4CCF-BEE4-A1456788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9DCF-CF78-4C86-BEE9-9D096B47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0350-1EDB-408B-B93E-2D56DDE5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BDDA-CB4B-44D4-8582-AB57622B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83E-4350-4DB7-8B23-7A26C8ED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FE7-C991-42F2-B8B6-66ECFB94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944-8D5C-4BEF-8D38-D024351A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FAE-DD2B-4DFA-8778-610FFDA1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C881-4F36-4231-A553-32F9481A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341-6310-4FA4-A4F8-CFAAACD4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7E2-293E-4D10-BEC1-58D6C766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7968-604A-45AA-875F-FD38C6680E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31C9-C660-46CF-965E-30CD31E8DE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ivil War Medicine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ource of Injur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nie Ba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 or abdominal wound was almost always fa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t to the limb would usually shatter 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d dirt, ger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made of l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Diseas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estimated at most, 1 of 3 deaths occurred from battle w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died from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hoid (leading cause of death):  Caused by bac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mach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sentery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ading cause of death):  bleeding and inflammation in the intes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hydration is a major conc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neumonia (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ading cause of death):  Lungs become inflamed filled with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g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be bacterial or vi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berculosis: deadly inf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y c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aria: often caused by a bacteria-carrying mosqu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emic (weakening of red blood cells) sympt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ource of Diseas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sanitation in c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ng food/garb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minated water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monella: bacteria in food an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life-threa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sult in typh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nesthetic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loroform: 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jor anesth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ered with a cloth held over 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d body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 much used, it could put soldiers into a coma or lead to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: Similar to chloro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explo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skey/Alcohol:  Used to dull pain/relax the inj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commonly used in sur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edici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nine:  used to reduce fever; prevent organ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phine:  Painkiller, administered orally or as a sh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um:  Oral painki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addi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dine began to be used to clean w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used in extrem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ivil War Hospit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tents towards rear of battle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houses, barns, churches, school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lay on straw/h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2606760"/>
            <a:ext cx="40384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mputation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5,000 injuries to federal troops in limbs, 30,000 ampu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treated wounds to limb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%-80% of wounds were to the arm and 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erformed within 24hrs, success rate of 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ngrene:  rotting of flesh due to poor blood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common after sur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20:22:22Z</dcterms:created>
  <dc:creator>Christopher Johnson</dc:creator>
  <dc:description/>
  <dc:language>en-US</dc:language>
  <cp:lastModifiedBy>Christopher Johnson</cp:lastModifiedBy>
  <dcterms:modified xsi:type="dcterms:W3CDTF">2007-01-31T15:57:32Z</dcterms:modified>
  <cp:revision>4</cp:revision>
  <dc:subject/>
  <dc:title>Civil War Medicine</dc:title>
</cp:coreProperties>
</file>